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E207-B5E8-44F0-9BBD-1374F9BE43D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F875-B78D-4B64-85F1-C6CD2BD5D13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DAD4-58EA-4EC8-998B-21F2AA087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54FE-A7CF-4061-B491-3ED42309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13B5-E839-48A0-A301-BBA6FB869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07C0-387B-44FD-B8ED-38D062BF4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A3D2-AA5C-4CD1-8498-F554EF0A6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E946-A72D-41A4-8B96-D4E975E5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CBEC-6DFF-450B-8E64-6454F868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6C955-59F5-443C-8F08-13EEC0B8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D2C3-C331-4006-AE67-90465B26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41CD-A6F2-4EE2-A36E-188012D5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256F5-89A7-4DF4-B1B9-438239A8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A508-C419-478D-9BC8-8EE0BB29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38F7C-40E1-4AE2-BF34-829606B3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0F95-2C00-4361-B979-113E104C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56CF-02E0-48B0-8173-04213476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2117-8858-4CF1-92B9-73CED687D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5043-E203-49E0-8C02-42463E1D2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8B612-9968-4F95-92B8-AEC8A332F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F89CB-570A-475D-A45F-0BFCF87B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B9793-3EB3-4C7A-8CDA-195E1C64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41890-5C5C-4F9C-956E-F841C349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91BEF-3E8E-48DB-8BB0-B2F18BB9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5FE1-993B-4E27-88E7-357DC54A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1DF82-B9B1-4656-8EE0-50654D53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B492E-7176-490A-BD68-F4088F62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99729-34EE-4D97-A5DE-D2150B04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8649A-31FC-47ED-A5BD-244176F1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AB1EC-CFC3-4B25-946F-D6B8EF39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55F73-8E48-42A9-A8BB-32E9B8151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AE7C3-0B42-47A8-A8B5-44B7B7B75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4077D-EBD5-4806-B212-926805D21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4C8C5-0512-415B-A984-8B197B45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3D600-5092-4CEE-8A0A-4067EE6B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945A-8CDA-4DC6-91E5-A9209126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336E0-9004-4481-AADD-F26104EB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DEA10-E826-4164-B642-CCD2F8E5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7AD44-27EC-456B-A143-A2487479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96829-FC0D-4E0E-8E76-B4BC15F7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28B44-B797-43C1-894F-902B7867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E9503-15B4-4632-BF61-0313B7AD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86F19-FBCA-4F8F-93E4-71B50F87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124E2-1C30-4B99-B495-05515957B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FF319-BC50-4923-A52D-CCFE45A0E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8A188-F628-405F-91F4-C44EBF07F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1098-52B5-4EBE-9CCD-0F81E262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01BA8-AB7F-47F8-AC10-04340271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FB1CC-6A26-49AF-B9F8-31786B70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FE267-4898-4CFD-8276-C262B38D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F434B-EA72-4D2D-B19D-9F270438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1E177-027E-4B14-B61D-18146D43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F96FB-7247-493A-8B5C-0E2A8784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9A6B4-1C03-43B4-B05C-20BE12A0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33CED-F790-4E4C-A9B3-4F18D778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B4AF1-119E-4097-AD7A-A5A6F742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2DF7B-6B89-4884-98D1-D7E2DF6BD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36BE-CC1C-46A0-B25E-A4336FA5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DE251-47F4-4C19-8FE4-EEC7D1406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7ECB4-A565-4354-8044-FB2261C65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994AE-7EAF-4878-8D99-02205817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E87FE-5AF2-4AE8-A93C-2B9FF359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FAABA-FEE5-4A9B-8071-2DD94C58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E2A8A-A450-4AE8-B587-94EE7272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3E9B0-567A-4AB7-80DC-E999A033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A068A-35BB-4D48-B90E-3FC20514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47CA1-165B-4A2E-819F-5424412A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B2DE6-53E4-4C8F-87AF-09D13551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8E6A-49A5-442B-BBE3-90ACB670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23225-873B-4D96-9CBC-8D355716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9D553-DF42-4B4B-92FB-330B1D067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7D0F5-080A-4470-91B0-0AAAD81A0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7A24-66FB-4277-9643-C6B6F26D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E19D-35C0-4F25-9B7B-A592F679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60A2-7A91-4CC3-885C-D9F3789C58A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8E96-FF0B-4AAC-B3AB-C6DD5C1400A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5239-80B0-4FFA-8FDB-368CEE6AC90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EAE6-67F3-4DF8-9DAB-2F70249EB72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9CDB-E952-49E0-910D-52661EE3CBB8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33E9-2282-4DB0-AE66-FAEB0B86F77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1" descr=""/>
          <p:cNvPicPr/>
          <p:nvPr/>
        </p:nvPicPr>
        <p:blipFill>
          <a:blip r:embed="rId1"/>
          <a:stretch/>
        </p:blipFill>
        <p:spPr>
          <a:xfrm>
            <a:off x="3133800" y="938160"/>
            <a:ext cx="5016600" cy="2183040"/>
          </a:xfrm>
          <a:prstGeom prst="rect">
            <a:avLst/>
          </a:prstGeom>
          <a:ln w="0">
            <a:noFill/>
          </a:ln>
        </p:spPr>
      </p:pic>
      <p:sp>
        <p:nvSpPr>
          <p:cNvPr id="262" name="TextBox 3"/>
          <p:cNvSpPr/>
          <p:nvPr/>
        </p:nvSpPr>
        <p:spPr>
          <a:xfrm>
            <a:off x="142920" y="142920"/>
            <a:ext cx="49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МОУ Лицей №3 г. Галич Костромской об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Box 4"/>
          <p:cNvSpPr/>
          <p:nvPr/>
        </p:nvSpPr>
        <p:spPr>
          <a:xfrm>
            <a:off x="142920" y="6357960"/>
            <a:ext cx="35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2008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© All rights reserv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Содержимое 2"/>
          <p:cNvSpPr/>
          <p:nvPr/>
        </p:nvSpPr>
        <p:spPr>
          <a:xfrm>
            <a:off x="3714840" y="3714840"/>
            <a:ext cx="50720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0" bIns="0" anchor="b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ворят мудрецы: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ушай пульс -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нём ответ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воюют глупцы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 мерцанье планет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ушай пульс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ъясни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узнать мы не в силах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742520" y="189000"/>
            <a:ext cx="106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f127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-11 к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Наша команд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мирнов Антон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ka Tox-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ихомиров Артём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ka Fl@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лшин Лев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ka $ummo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рольков Сергей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ka Hawkey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ловьёв Артём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ka 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Прямоугольник 15"/>
          <p:cNvSpPr/>
          <p:nvPr/>
        </p:nvSpPr>
        <p:spPr>
          <a:xfrm>
            <a:off x="3571920" y="4714920"/>
            <a:ext cx="492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гда не слышишь ничего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гда тебе не все равно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лушай ПУЛЬС ты свой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лышишь, ты, что "Мы с тобой"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Заголовок 1"/>
          <p:cNvSpPr/>
          <p:nvPr/>
        </p:nvSpPr>
        <p:spPr>
          <a:xfrm>
            <a:off x="4929120" y="3500280"/>
            <a:ext cx="328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Наш девиз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29640" y="208080"/>
            <a:ext cx="106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f127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-11 к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Рисунок 3" descr="4.jpg"/>
          <p:cNvPicPr/>
          <p:nvPr/>
        </p:nvPicPr>
        <p:blipFill>
          <a:blip r:embed="rId1"/>
          <a:stretch/>
        </p:blipFill>
        <p:spPr>
          <a:xfrm>
            <a:off x="142920" y="142920"/>
            <a:ext cx="2571840" cy="34290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E:\DSC00513.JPG"/>
          <p:cNvPicPr/>
          <p:nvPr/>
        </p:nvPicPr>
        <p:blipFill>
          <a:blip r:embed="rId2"/>
          <a:stretch/>
        </p:blipFill>
        <p:spPr>
          <a:xfrm>
            <a:off x="2643120" y="2500200"/>
            <a:ext cx="3333960" cy="26481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" descr="E:\DSC00516.JPG"/>
          <p:cNvPicPr/>
          <p:nvPr/>
        </p:nvPicPr>
        <p:blipFill>
          <a:blip r:embed="rId3"/>
          <a:stretch/>
        </p:blipFill>
        <p:spPr>
          <a:xfrm>
            <a:off x="5857920" y="4214880"/>
            <a:ext cx="3071880" cy="242892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7" descr="S7302542.JPG"/>
          <p:cNvPicPr/>
          <p:nvPr/>
        </p:nvPicPr>
        <p:blipFill>
          <a:blip r:embed="rId4"/>
          <a:stretch/>
        </p:blipFill>
        <p:spPr>
          <a:xfrm>
            <a:off x="142920" y="3929040"/>
            <a:ext cx="2286000" cy="280512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8" descr="toxa.jpg"/>
          <p:cNvPicPr/>
          <p:nvPr/>
        </p:nvPicPr>
        <p:blipFill>
          <a:blip r:embed="rId5"/>
          <a:stretch/>
        </p:blipFill>
        <p:spPr>
          <a:xfrm>
            <a:off x="6357960" y="214200"/>
            <a:ext cx="2603520" cy="3632400"/>
          </a:xfrm>
          <a:prstGeom prst="rect">
            <a:avLst/>
          </a:prstGeom>
          <a:ln w="0">
            <a:noFill/>
          </a:ln>
        </p:spPr>
      </p:pic>
      <p:sp>
        <p:nvSpPr>
          <p:cNvPr id="276" name="TextBox 14"/>
          <p:cNvSpPr/>
          <p:nvPr/>
        </p:nvSpPr>
        <p:spPr>
          <a:xfrm>
            <a:off x="6858000" y="21420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ox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Box 15"/>
          <p:cNvSpPr/>
          <p:nvPr/>
        </p:nvSpPr>
        <p:spPr>
          <a:xfrm>
            <a:off x="500040" y="613080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Hawkey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Box 16"/>
          <p:cNvSpPr/>
          <p:nvPr/>
        </p:nvSpPr>
        <p:spPr>
          <a:xfrm>
            <a:off x="5929200" y="60008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$ummo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Box 17"/>
          <p:cNvSpPr/>
          <p:nvPr/>
        </p:nvSpPr>
        <p:spPr>
          <a:xfrm>
            <a:off x="2714760" y="2500200"/>
            <a:ext cx="192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Box 18"/>
          <p:cNvSpPr/>
          <p:nvPr/>
        </p:nvSpPr>
        <p:spPr>
          <a:xfrm>
            <a:off x="71280" y="7128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l@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221440" y="189000"/>
            <a:ext cx="106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f127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-11 к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14:36:48Z</dcterms:created>
  <dc:creator>Flash</dc:creator>
  <dc:description/>
  <dc:language>en-US</dc:language>
  <cp:lastModifiedBy>User</cp:lastModifiedBy>
  <dcterms:modified xsi:type="dcterms:W3CDTF">2008-04-11T10:19:48Z</dcterms:modified>
  <cp:revision>31</cp:revision>
  <dc:subject/>
  <dc:title>Пульс</dc:title>
</cp:coreProperties>
</file>