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493-FBCA-4D34-B8DE-E52295D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7FC-1551-4B17-828A-6B00A260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EFF-80D9-4A67-9D70-3A40E446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55C-A92E-460D-B82E-A68E0E18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6E7-FB53-4173-B7AF-794DE9F6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F47-4DF4-441F-B13D-C118386E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A32-24FE-4A91-A780-2BC19C1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E3F-CF03-4B1B-A26D-71E58DA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2C7-9DAF-44E4-8DD3-CCBF0096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5B2-31AD-4881-8467-357DA3C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AEC-DD48-46F6-AED1-8F9F7C2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8D7-625A-45F8-9FCF-42DAD5D4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2789-0E3B-4BF6-89D8-6883AB7D6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3746" t="10837" r="8737" b="5842"/>
          <a:stretch/>
        </p:blipFill>
        <p:spPr>
          <a:xfrm>
            <a:off x="0" y="0"/>
            <a:ext cx="4608360" cy="32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51280" y="4265640"/>
            <a:ext cx="5040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"Прометей"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2421000"/>
            <a:ext cx="8713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Зажги огонь мысли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в умах людей,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ак это сделал Прометей!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43280" y="476280"/>
            <a:ext cx="352728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наш девиз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0:18:39Z</dcterms:created>
  <dc:creator>Кузьмищенская</dc:creator>
  <dc:description/>
  <dc:language>en-US</dc:language>
  <cp:lastModifiedBy>Кузьмищенская</cp:lastModifiedBy>
  <dcterms:modified xsi:type="dcterms:W3CDTF">2008-04-11T09:36:25Z</dcterms:modified>
  <cp:revision>6</cp:revision>
  <dc:subject/>
  <dc:title>Слайд 1</dc:title>
</cp:coreProperties>
</file>